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1F7-F60F-46BD-913B-6A4C4DE8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402-84B6-496B-BF92-86D3704D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EF3-FAAA-406D-9728-ACBF17A5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2BB-B2C1-49B0-B058-FF974FF8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9E09-FEE6-4FD9-952A-E0B23BE6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FB9-A65D-435B-9CD1-8C5E75B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7EE4-33FA-4ACD-AF77-23382B3E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8BB9-CBF1-4848-8217-DA9DB9F6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1B53-7360-42F9-9AC2-4A049421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8980-D86C-405E-ACA2-EF3FBFDC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2F0D-A291-42E8-A86F-08211126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BB4-3CC5-4ADC-9A03-45EC7EA8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14B4-17F5-4B99-9941-5C83231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0640-707E-442A-B25E-086DA053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DBE-D042-49B6-84D5-B787D930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C21C-2990-442F-A83E-AF1AB361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E27-21ED-410C-87B1-6B068EEA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9084-4FC5-4E2E-9717-E0C75830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2C6F-C001-46CC-8E20-5C81B58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C198B-C961-4997-8610-68F7BF72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AE008-D032-43D6-AB16-A7C84A11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97303-1310-4688-BDF9-AD4BC45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F3F-90C8-42AF-93DA-0A991E3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B6B1-8BA0-465E-B321-23D1F6F7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DE14-CAC5-439D-81CC-B44B022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A8CD8-D5DC-4DE2-9D7B-046E7B1F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1FE9-581C-44C2-8EBF-916258DD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EBADC-D8F8-4BC0-8E9B-E06C834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FA53-5BC5-4C76-A0CC-A9B8E3AC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8707-AC4C-41B2-9253-ED1EE5B5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1D19-A864-4B7E-B760-F5BEF257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8802-4ADC-4AE9-92AF-B1BA07A2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0349-4C54-4B1E-A9F6-42CCB15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313-28DE-460B-B79B-6FCAD12F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D1F1-3635-4013-83A7-F43FE8D4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EE8B-C61D-4C9F-B1DC-8E86C9FC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E530-9D87-459E-9361-9B4CF610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0732-5AA1-4B71-A86F-B0F2E8C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860D4-0C6B-4A98-85D7-1BAF0CC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39511-DCF7-48B7-847C-F4A06BB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BC2F-68C0-44D4-A912-6E3A5E2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C6E20-8C29-4040-BC64-71D15504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E6254-4E65-4478-9D3C-CF86C2E1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9D369-ED01-42EA-879F-2E772D21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2E94-F813-410D-AC5F-7AF03AFA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C6764-0074-49D9-B616-0DB69BD8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37D42-17C5-4A05-ACB5-D67D815C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6B09E-5B73-4679-9D64-8136439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5117-00FA-437B-B7B4-81B95949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505E-4E22-401E-B542-AAD950E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6829-72CA-4B2C-B1B7-BD2F478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448E3-E0F5-4D83-A626-42FDE8D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82B8-0B89-4D8C-8401-313B8CEF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DEBF-1129-49E5-BA8A-E573CA5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36E1-8F5C-431F-B40E-D8A7BD8C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D83-A0EE-41E4-B6D6-569F7AE2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167D-9864-48EB-B005-9FBB01C2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643-B4BB-4EB9-82F1-31296D8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AE2-F2A1-436B-A1EC-885F3A9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209-8D9F-42F3-A501-65DC56A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4F95-FB02-42B4-8543-24CC4951E66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683-CF58-4677-B400-C2D7AA1B7F27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F689-656D-430B-B62A-E82B0AA0ECED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776F-52F2-4915-B6A9-0D23390FE1C6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92C5-3506-411C-9624-72604123243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‘</a:t>
            </a: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MSC ON INFORMATICS ENGINEERING’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84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epartment of Informatics Engineer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HMU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urse title &amp; ident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Title: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292934"/>
                </a:solidFill>
                <a:latin typeface="Arial"/>
              </a:rPr>
              <a:t>Advanced Software Engineering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Objective(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is course provides all the necessary knowledge and skills to students in order to: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Use Modeling Languages such as UML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Use CASE tools for analyzing and designing software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e able to design software systems taking into consideration Object Oriented, Real Time &amp; Critical system specifications &amp; constraints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e able to confirm, verify and validate software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ecome familiar with the characteristics of Critical systems inspection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e able to administer the software evolution process,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533c"/>
                </a:solidFill>
                <a:latin typeface="Arial"/>
              </a:rPr>
              <a:t>Course title &amp; identity    </a:t>
            </a:r>
            <a:r>
              <a:rPr b="1" lang="en-US" sz="2000" spc="-1" strike="noStrike">
                <a:solidFill>
                  <a:srgbClr val="d2533c"/>
                </a:solidFill>
                <a:latin typeface="Arial"/>
              </a:rPr>
              <a:t>Advanced Software Engineering</a:t>
            </a:r>
            <a:endParaRPr b="0" lang="en-US" sz="2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1557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Focus 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formation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ims to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present the 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</a:rPr>
              <a:t>principals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</a:rPr>
              <a:t>techniques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, and </a:t>
            </a:r>
            <a:r>
              <a:rPr b="1" lang="en-US" sz="2000" spc="-1" strike="noStrike" u="sng">
                <a:solidFill>
                  <a:srgbClr val="292934"/>
                </a:solidFill>
                <a:uFillTx/>
                <a:latin typeface="Arial"/>
              </a:rPr>
              <a:t>methods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for professional and systematic software development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Tools - Languag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Unified Modeling Language (UML),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ASE tools like Visual Paradigm &amp; Rational Rose and programming languages like JAVA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Members of stu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r. Vidakis Nikola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eaching 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ectures (3 hours) : (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ectures are supported by PowerPoint slides, scientific papers etc. Whiteboard exercises for one hour a wee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aboratory classes (2 hours) : (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ekl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urse Time and Place: Tuesdays 9-14, Lab 5PK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eaching 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tudents form work groups of 2-3 membe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roup Assignments: 5-6 group assignment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ll assignments assemble the final group project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inal assignment is engaged with the aggregation of individual assignments to a final group projec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ject work: (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d-term project assessment (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 written exam assessment (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 project assessment (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eaching Approach         </a:t>
            </a:r>
            <a:r>
              <a:rPr b="1" lang="en-US" sz="2000" spc="-1" strike="noStrike">
                <a:solidFill>
                  <a:srgbClr val="d2533c"/>
                </a:solidFill>
                <a:latin typeface="Arial"/>
              </a:rPr>
              <a:t>Final project assessment </a:t>
            </a:r>
            <a:endParaRPr b="0" lang="en-US" sz="2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23760" y="1484280"/>
            <a:ext cx="92170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dicative past Year project Titl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Music-X a Multi Music Platform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eBIONets: Electronic Organization for supporting virtual alliances related to the production of organic product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Smart Home System to Support Independent and Safe Living for Elderly People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292934"/>
                </a:solidFill>
                <a:latin typeface="Arial"/>
              </a:rPr>
              <a:t>Αρχιτεκτονική ανάλυση, μελέτη απαιτήσεων και σχεδίαση συστήματος Info Kiosk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dicative Bibliography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Ian Sommerville: Software Engineering (8th edition), Addison-Wesley, May 25, 2006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Pfleeger Shari Lawrence, </a:t>
            </a:r>
            <a:r>
              <a:rPr b="0" lang="el-GR" sz="1000" spc="-1" strike="noStrike">
                <a:solidFill>
                  <a:srgbClr val="292934"/>
                </a:solidFill>
                <a:latin typeface="Arial"/>
              </a:rPr>
              <a:t>Τεχνολογία λογισμικού Θεωρία και Πράξη Α' &amp; Β’ ΤΟΜΟΣ, Κλειδάριθμος, 2003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Grady Booch, James Rumbaugh, The Unified Modeling Language User Guide (2nd Edition), Pearson Education Limited, 2005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Grady Booch, Robert A. Maksimchuk, J. Newkirk et.al., Object Oriented Analysis and Design with Applications, Pearson Education Limited, 2007 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Martin Fowler, UML Distilled: A Brief Guide to the Standard Object Modeling Language (3rd Edition) (The Addison-Wesley Object Technology Series) (Paperback), Pearson Education Limited, 2003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Alan Dennis, Systems Analysis &amp; Design with UML 2nd Edition with Visio 2007 Set, John Wiley and Sons Ltd, 2008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Ivar Jacobson, Grady Booch, James Rumbaugh: The Unified Software Development Process, Addison-Wesley, 1999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Ivar Jacobson, Magnus Christerson, Patrik Jonsson, Gunnar Oevergaard: Object-Oriented Software Engineering (A use case Driven Approach), Addison-Wesley, 1995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Rational Rose Home Page: http://www.rational.com/products/rose/index.jtmpl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Object Management Group – UML: http://www.uml.org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34"/>
                </a:solidFill>
                <a:latin typeface="Arial"/>
              </a:rPr>
              <a:t>The Carnegie Mellon Software Engineering Home: http://www.sei.cmu.edu/sei-home.html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lica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e-requisite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knowledge of S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knowledge of HCI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knowledge of DB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kill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UML skill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OOD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xpected weekly workloa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part from the 5 course hours an extra 4-6 hours are 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anticipated depending on the background of the student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Workload is expected to reach its peak at the end of the semester when students are to complete and present their project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Student with little or no prior knowledge of: CASE tools (e.g. Rational Rose) and modelling Languages (e.g. UML) will have a significantly increased workload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spyros panagiotakis</cp:lastModifiedBy>
  <dcterms:modified xsi:type="dcterms:W3CDTF">2023-10-05T16:31:18Z</dcterms:modified>
  <cp:revision>30</cp:revision>
  <dc:subject/>
  <dc:title>‘Informatics &amp; multimedia’</dc:title>
</cp:coreProperties>
</file>